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51675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524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353600" y="650520"/>
            <a:ext cx="4343400" cy="32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16A6-0137-409D-8DCC-0C6008FB07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90B0-C58A-4B73-84B4-EBFA42B981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316B-2581-439E-AA3E-681339A0C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1134-C7D0-4D1A-B64D-9C27271E9E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6C10-225F-492F-8432-942F2E72E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1C60-5CCE-4322-ADD8-3EC97E674D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FA5C-F966-4922-B26C-6A3A1ED86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A215-CB8D-4222-B3FE-B9EBCA8653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B760-F12B-433D-9D73-2901897A4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17F7-A012-44E6-86E9-105A6DE105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FC8F-51DB-4903-BC19-E95E062CA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6387-2B06-4EE6-B0A0-637740425F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D044-957B-462D-BC70-A54A72C3D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D9046-1C1D-46DA-87E2-8166AE4D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C344D-3F92-4EB4-AE8B-713F9453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324D7-B240-4041-B59A-19123E74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C030B-C2AD-4752-A0F2-4937EEE0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471D-519B-4A3F-B082-05831EC5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9114-AD9A-4BE1-97DB-407FF2FE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3098-B416-4C76-AEB2-BA4F4793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AE6A-9701-48D9-87D4-D1B3E454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BAF4-3F98-47F2-A55B-718DAEEC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617B-D92A-4574-9B32-2AF62351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A652-E19A-4ED9-A6A5-E73A4411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FDD9F-44AA-47A9-AA62-15C4D107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C9ED-8D83-4DD6-A5FA-466351A3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A929-7F32-4599-A93F-ADA9E62C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7EB9-8A45-4FBC-9A0E-9EDB62F2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B43E-C081-451D-B5C8-D70EE75D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D1EC-A67C-48FF-ACB4-77406447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D58DE-DF59-4F43-A89B-700B32EB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4DBDE-0D53-4966-B4BE-AD318F2D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B3C36-E3CE-40C9-8D0D-10E0F62E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4E382-12E6-4975-B525-8EB0712F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83AB2-0C2C-4B7F-83F1-965A1C1E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5453A-646A-4A02-9820-90B4ECB0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79774-1C34-4126-B38E-101E145B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9166-0065-436C-A9A2-ED8B6AE324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35E2-F705-417D-96F5-92E13D206D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Chapter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The Study of Change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9F5C-A376-422E-A221-4C321A5513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Physical or Chem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physical chang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es not change the composition or identity of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ice melting or salt dissolving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chemical chang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anges the composition or identity of the substance/s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hydrogen burn in air to fo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19320" y="4876920"/>
            <a:ext cx="6476760" cy="1981080"/>
            <a:chOff x="1219320" y="4876920"/>
            <a:chExt cx="6476760" cy="19810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rcRect l="0" t="13748" r="0" b="0"/>
            <a:stretch/>
          </p:blipFill>
          <p:spPr>
            <a:xfrm>
              <a:off x="4046040" y="4876920"/>
              <a:ext cx="36500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219320" y="5564880"/>
              <a:ext cx="240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ydrogen burns in air to form 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45FDD-B1FF-4A58-99FE-B37841AB25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8"/>
          <p:cNvSpPr/>
          <p:nvPr/>
        </p:nvSpPr>
        <p:spPr>
          <a:xfrm>
            <a:off x="457200" y="36504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Measurements and Un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80880" y="1371600"/>
            <a:ext cx="8382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asurements of Macroscopic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croscopic Properties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.g.: length, weight, temperature,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2C1C2-2087-4963-95AF-140DDE2B42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304920" y="4572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SI Units: International System of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6000" y="1916280"/>
            <a:ext cx="8748720" cy="35319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06C85-B851-4B2E-8D36-AEF43116F4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Content Placeholder 3"/>
          <p:cNvSpPr/>
          <p:nvPr/>
        </p:nvSpPr>
        <p:spPr>
          <a:xfrm>
            <a:off x="228600" y="1371600"/>
            <a:ext cx="4800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I unit of mas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The 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The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c) The kil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The 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57200" y="3808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ontent Placeholder 3"/>
          <p:cNvSpPr/>
          <p:nvPr/>
        </p:nvSpPr>
        <p:spPr>
          <a:xfrm>
            <a:off x="4648320" y="137160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Kg is the SI uni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b)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EB5AC-3A17-41AB-ADA8-31833245E9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95" descr="01_03"/>
          <p:cNvPicPr/>
          <p:nvPr/>
        </p:nvPicPr>
        <p:blipFill>
          <a:blip r:embed="rId1"/>
          <a:srcRect l="0" t="3312" r="0" b="0"/>
          <a:stretch/>
        </p:blipFill>
        <p:spPr>
          <a:xfrm>
            <a:off x="228600" y="1297080"/>
            <a:ext cx="8686800" cy="47307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151" name="Right Arrow 5"/>
          <p:cNvSpPr/>
          <p:nvPr/>
        </p:nvSpPr>
        <p:spPr>
          <a:xfrm>
            <a:off x="380880" y="3809880"/>
            <a:ext cx="5943600" cy="76320"/>
          </a:xfrm>
          <a:prstGeom prst="rightArrow">
            <a:avLst>
              <a:gd name="adj1" fmla="val 50000"/>
              <a:gd name="adj2" fmla="val 4975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343400" y="3276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Up Arrow 7"/>
          <p:cNvSpPr/>
          <p:nvPr/>
        </p:nvSpPr>
        <p:spPr>
          <a:xfrm flipH="1">
            <a:off x="5105520" y="2438280"/>
            <a:ext cx="411120" cy="129564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own Arrow 9"/>
          <p:cNvSpPr/>
          <p:nvPr/>
        </p:nvSpPr>
        <p:spPr>
          <a:xfrm>
            <a:off x="5105520" y="4038480"/>
            <a:ext cx="380880" cy="152424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380880" y="3049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424F6-EF06-441F-968A-4CA808973F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6320" y="1295280"/>
            <a:ext cx="90676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I prefixes giga- and micro represent, respectively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9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80880" y="44136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19B17-12DE-4305-B2B0-7DEA0490F3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Units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Prefix </a:t>
            </a:r>
            <a:r>
              <a:rPr b="0" lang="en-US" sz="3200" spc="-1" strike="noStrike">
                <a:solidFill>
                  <a:srgbClr val="9999cc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Base Unit  (e.g. km → 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ase Un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Prefix (e.g. m → k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Prefix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Prefix (e.g. km → n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3237F-A78A-47EF-8726-2F14250649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Units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Prefix </a:t>
            </a:r>
            <a:r>
              <a:rPr b="0" lang="en-GB" sz="2800" spc="-1" strike="noStrike">
                <a:solidFill>
                  <a:srgbClr val="9999cc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Bas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e.g. 6km → ?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6 x 10</a:t>
            </a:r>
            <a:r>
              <a:rPr b="0" lang="en-GB" sz="2800" spc="-1" strike="noStrike" baseline="30000">
                <a:solidFill>
                  <a:srgbClr val="9999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 m (km is 10</a:t>
            </a:r>
            <a:r>
              <a:rPr b="0" lang="en-GB" sz="2800" spc="-1" strike="noStrike" baseline="30000">
                <a:solidFill>
                  <a:srgbClr val="9999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 m from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of prefi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Base Uni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Pref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.g. 6m → ? k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6 x 10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-3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m (m is 10</a:t>
            </a:r>
            <a:r>
              <a:rPr b="0" lang="ar-SA" sz="28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km (reverse the power sign from the table of prefi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Prefix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Pref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e.g. 6 km → ?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6 x 1</a:t>
            </a:r>
            <a:r>
              <a:rPr b="0" lang="ar-SA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3 </a:t>
            </a:r>
            <a:r>
              <a:rPr b="1" lang="en-GB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 (-9)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nm = 6 x 10</a:t>
            </a:r>
            <a:r>
              <a:rPr b="0" lang="ar-SA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nm (km is 1</a:t>
            </a:r>
            <a:r>
              <a:rPr b="0" lang="ar-SA" sz="2800" spc="-1" strike="noStrike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m put negative sign (the nm is 1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m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E74B7-C4BB-43E8-BBBD-D3C9E1D364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ontent Placeholder 1"/>
          <p:cNvSpPr/>
          <p:nvPr/>
        </p:nvSpPr>
        <p:spPr>
          <a:xfrm>
            <a:off x="380880" y="1219320"/>
            <a:ext cx="76201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icroseconds are in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secon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(d) 1 x 10 </a:t>
            </a:r>
            <a:r>
              <a:rPr b="0" lang="en-US" sz="2800" spc="-1" strike="noStrike" baseline="30000">
                <a:solidFill>
                  <a:srgbClr val="cccce6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380880" y="3049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DFCBC-1041-4317-B8FC-099AA8683F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Content Placeholder 1"/>
          <p:cNvSpPr/>
          <p:nvPr/>
        </p:nvSpPr>
        <p:spPr>
          <a:xfrm>
            <a:off x="380880" y="685800"/>
            <a:ext cx="8305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of the following is the 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 2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2.1 x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 21 m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 2.1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Put all of them in the same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3E4D2-7FF1-47BB-94BF-B082E6D19A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0" y="990720"/>
            <a:ext cx="8964720" cy="44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Course Code/Numb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hem 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Course Instruc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r. Nuha Waz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Assistant Professor of Physical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Office: Building 7 /2</a:t>
            </a:r>
            <a:r>
              <a:rPr b="1" lang="en-GB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Floor/ Office 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Office hours: S.M.W.. 12-1 &amp; ...T.. 9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ebsite: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wazzan.kau.edu.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mail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110_nwazzan@hot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06561-FC83-4F8E-BE7B-4E12EBABF8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Content Placeholder 1"/>
          <p:cNvSpPr/>
          <p:nvPr/>
        </p:nvSpPr>
        <p:spPr>
          <a:xfrm>
            <a:off x="304920" y="609480"/>
            <a:ext cx="8229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of the following is the 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 21 m  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21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2.1 x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2.1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 21 mm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0.02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 2.1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m →  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2.1 x 10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omic Sans MS"/>
              </a:rPr>
              <a:t>-8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Put all of them in the sam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3232"/>
                </a:solidFill>
                <a:latin typeface="Comic Sans MS"/>
              </a:rPr>
              <a:t>Explana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 though 2.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rgest number in this question, the units of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icometers) are the smallest units he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ing it the smallest d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732CA-5AE4-4BEC-B454-09874D29B6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560" y="457200"/>
            <a:ext cx="84582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diameter of an atom is approximately 1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m. What is this diameter when express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anometer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  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cccce6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cccce6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BBDB2-CA39-4551-9560-BA644A25B7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04920" y="457200"/>
            <a:ext cx="807696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H.W.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Which of these quantities represents the largest mas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.0010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2.0 </a:t>
            </a:r>
            <a:r>
              <a:rPr b="0" lang="en-US" sz="2800" spc="-1" strike="noStrike">
                <a:solidFill>
                  <a:srgbClr val="666699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c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ut all of them in the sam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DA547-7187-490D-A7E3-0D1D878B37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28240" y="1066320"/>
            <a:ext cx="6629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Mass: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s the measure of the amount of matter in an o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omic Sans MS"/>
              </a:rPr>
              <a:t>SI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unit of mass is the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kilogram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(k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 kg = 1000 g = 1 x 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Weight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is the measurement of the pull of gravity on an o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Mas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an object doesn't change when an object's location changes.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Weight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, on the other hand does change with locat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hemist are interested primarily in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mas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01_03"/>
          <p:cNvPicPr/>
          <p:nvPr/>
        </p:nvPicPr>
        <p:blipFill>
          <a:blip r:embed="rId1"/>
          <a:srcRect l="0" t="0" r="20710" b="0"/>
          <a:stretch/>
        </p:blipFill>
        <p:spPr>
          <a:xfrm>
            <a:off x="6781680" y="533520"/>
            <a:ext cx="2133720" cy="20872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1600200" y="3733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d3232"/>
                </a:solidFill>
                <a:latin typeface="Comic Sans MS"/>
              </a:rPr>
              <a:t>weight = </a:t>
            </a:r>
            <a:r>
              <a:rPr b="0" i="1" lang="en-US" sz="2800" spc="-1" strike="noStrike">
                <a:solidFill>
                  <a:srgbClr val="9d3232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9d3232"/>
                </a:solidFill>
                <a:latin typeface="Comic Sans MS"/>
              </a:rPr>
              <a:t> x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791320" y="34290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3232"/>
                </a:solidFill>
                <a:latin typeface="Comic Sans MS"/>
              </a:rPr>
              <a:t>The weight of man on earth is 5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3232"/>
                </a:solidFill>
                <a:latin typeface="Comic Sans MS"/>
              </a:rPr>
              <a:t>is 8.25 pounds on mo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80880" y="3808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Mass and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ABBDF-2A0A-44AC-811D-46ADA987B0B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I Derived Unit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defined in terms of the seven base quantitie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system of quantity equ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Are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dth x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width =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length =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Area = m× m 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5267160" y="4648320"/>
            <a:ext cx="36691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eat units lik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04920" y="38088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SI Derived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3276720" y="5638680"/>
            <a:ext cx="3276360" cy="990720"/>
          </a:xfrm>
          <a:prstGeom prst="wedgeRectCallout">
            <a:avLst>
              <a:gd name="adj1" fmla="val -3050"/>
              <a:gd name="adj2" fmla="val -10176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derived unit fo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5257800" y="3657600"/>
            <a:ext cx="2590920" cy="609480"/>
          </a:xfrm>
          <a:prstGeom prst="wedgeRectCallout">
            <a:avLst>
              <a:gd name="adj1" fmla="val -90504"/>
              <a:gd name="adj2" fmla="val 1900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Bas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3733920"/>
            <a:ext cx="304920" cy="685800"/>
          </a:xfrm>
          <a:custGeom>
            <a:avLst/>
            <a:gdLst>
              <a:gd name="textAreaLeft" fmla="*/ 0 w 304920"/>
              <a:gd name="textAreaRight" fmla="*/ 110160 w 304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B222D-56BE-4D8F-8347-3121822AAE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2743200" y="414360"/>
            <a:ext cx="6629400" cy="42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Volume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olume = width × length × he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m × m × m =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050280" y="4114800"/>
            <a:ext cx="56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1 c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(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2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)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6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092400" y="4724280"/>
            <a:ext cx="56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1 d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(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1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)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2728800" cy="49528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9"/>
          <p:cNvSpPr/>
          <p:nvPr/>
        </p:nvSpPr>
        <p:spPr>
          <a:xfrm>
            <a:off x="3581280" y="2590920"/>
            <a:ext cx="5181840" cy="990360"/>
          </a:xfrm>
          <a:prstGeom prst="wedgeRectCallout">
            <a:avLst>
              <a:gd name="adj1" fmla="val 6708"/>
              <a:gd name="adj2" fmla="val -9599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ic meter (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is the SI derived unit for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D2D9D-7E9E-4193-8C3B-0D66E88212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266760" y="338040"/>
            <a:ext cx="9029520" cy="64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Volu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 unit of volume is liter (L) and milliliter (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liter (L) and 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L= 10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liter (L) and metric syste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 L = 1d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ff0000"/>
                </a:solidFill>
                <a:latin typeface="Comic Sans MS"/>
              </a:rPr>
              <a:t>A liter: is the volume occupied by one cubic decimeter</a:t>
            </a:r>
            <a:r>
              <a:rPr b="1" lang="en-GB" sz="4400" spc="-1" strike="noStrike" baseline="30000">
                <a:solidFill>
                  <a:srgbClr val="ff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milliliter (ml) and metric syste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 mL = 1c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32C26-2893-42D3-94A3-3B41CDA59CF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How many cubic centimeters are there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exactly one cubic meter?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70c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70c0"/>
                </a:solidFill>
                <a:latin typeface="Comic Sans MS"/>
              </a:rPr>
              <a:t>6</a:t>
            </a: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70c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Comic Sans MS"/>
              </a:rPr>
              <a:t>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1m 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(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80880" y="3808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F5C37-563B-4CC7-9344-27CDE5DF79B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6172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ensity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the amount of matter in a given amount of sp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             </a:t>
            </a: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SI derived unit for density is kg/m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995400" y="3048120"/>
            <a:ext cx="3034800" cy="779760"/>
            <a:chOff x="995400" y="3048120"/>
            <a:chExt cx="3034800" cy="779760"/>
          </a:xfrm>
        </p:grpSpPr>
        <p:sp>
          <p:nvSpPr>
            <p:cNvPr id="189" name="Text Box 4"/>
            <p:cNvSpPr/>
            <p:nvPr/>
          </p:nvSpPr>
          <p:spPr>
            <a:xfrm>
              <a:off x="995400" y="322920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density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"/>
            <p:cNvSpPr/>
            <p:nvPr/>
          </p:nvSpPr>
          <p:spPr>
            <a:xfrm>
              <a:off x="2833200" y="3048120"/>
              <a:ext cx="92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m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6"/>
            <p:cNvSpPr/>
            <p:nvPr/>
          </p:nvSpPr>
          <p:spPr>
            <a:xfrm>
              <a:off x="2680920" y="336816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volu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7"/>
            <p:cNvSpPr/>
            <p:nvPr/>
          </p:nvSpPr>
          <p:spPr>
            <a:xfrm>
              <a:off x="2734920" y="343800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80880" y="349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Den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019920" y="609480"/>
            <a:ext cx="30016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36AA0-9411-469D-A206-CBB9DB874790}" type="slidenum">
              <a:t>28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Comic Sans MS"/>
              </a:rPr>
              <a:t>Density decrease with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g/ml  &amp; </a:t>
            </a:r>
            <a:r>
              <a:rPr b="0" lang="ar-SA" sz="3600" spc="-1" strike="noStrike">
                <a:solidFill>
                  <a:srgbClr val="700e2a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g/cm</a:t>
            </a:r>
            <a:r>
              <a:rPr b="0" lang="en-US" sz="3600" spc="-1" strike="noStrike" baseline="30000">
                <a:solidFill>
                  <a:srgbClr val="700e2a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 for liquid and sol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/L = 0.001 g/ml for gases (Because density of gases are very l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1CE11-0EBF-4298-B629-3F3F60A5CDE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Required Textbook and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57200" y="2209680"/>
            <a:ext cx="6095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hem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y: R. Chang, 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edi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cGraw Hill interna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andouts (PPt sl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_vv4-0" descr="http://i.ebayimg.com/21/!B)7q8lQ!Wk~$(KGrHqEOKnQEw8ojvO2CBMPkKfyHb!~~_12.JPG"/>
          <p:cNvPicPr/>
          <p:nvPr/>
        </p:nvPicPr>
        <p:blipFill>
          <a:blip r:embed="rId3"/>
          <a:stretch/>
        </p:blipFill>
        <p:spPr>
          <a:xfrm>
            <a:off x="6248520" y="2057400"/>
            <a:ext cx="281916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4FB4B-E2D6-4491-A2D1-EA091510A9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Densit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1752480"/>
            <a:ext cx="640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1752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17524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1752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289548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m &amp;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97180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m &amp;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 = m /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320184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V &amp;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m = d x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FCC44-2090-4818-99B8-55FDC5028DD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0456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piece of Gold metal has a volume o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15.6 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, with a mass of 301 g  What 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its density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533520" y="482904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301g /  15.6 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19.3 g/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3808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 1.1 p19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67228-7F48-4CC9-B57E-B8650836FD4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3805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actice Exercise p19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piece of platinum metal with a dens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of 21.5 g/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 has a volume of 4.49 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What is its ma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3513240" y="411480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2764080" y="5715000"/>
            <a:ext cx="423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 21.5 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x 4.49 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 96.5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 flipV="1">
            <a:off x="4114800" y="57913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4"/>
          <p:cNvSpPr/>
          <p:nvPr/>
        </p:nvSpPr>
        <p:spPr>
          <a:xfrm flipV="1">
            <a:off x="6095880" y="57913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181C6-DA94-458F-A045-EFD4BB1443E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0520" y="4269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 1.2 p19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The density of mercury is 13.6 g/mL h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volume of 5.50 mL.  What is its ma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3513240" y="396252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2209680" y="54547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= 13.6 g/mL x 5.5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= 74.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3"/>
          <p:cNvSpPr/>
          <p:nvPr/>
        </p:nvSpPr>
        <p:spPr>
          <a:xfrm flipV="1">
            <a:off x="4191120" y="55627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4"/>
          <p:cNvSpPr/>
          <p:nvPr/>
        </p:nvSpPr>
        <p:spPr>
          <a:xfrm flipV="1">
            <a:off x="5867280" y="55627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80135-023E-4192-86D5-6FD3E8107E3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3650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329080" y="1400040"/>
            <a:ext cx="2210040" cy="4335480"/>
            <a:chOff x="5329080" y="1400040"/>
            <a:chExt cx="2210040" cy="433548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5329080" y="1400040"/>
              <a:ext cx="204156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6838920" y="5209920"/>
              <a:ext cx="7002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7029360" y="520056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8186760" y="3867120"/>
            <a:ext cx="271440" cy="263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3728880" y="1352520"/>
            <a:ext cx="86076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6929280" y="1628640"/>
            <a:ext cx="547920" cy="2633760"/>
            <a:chOff x="6929280" y="1628640"/>
            <a:chExt cx="547920" cy="2633760"/>
          </a:xfrm>
        </p:grpSpPr>
        <p:pic>
          <p:nvPicPr>
            <p:cNvPr id="225" name="" descr=""/>
            <p:cNvPicPr/>
            <p:nvPr/>
          </p:nvPicPr>
          <p:blipFill>
            <a:blip r:embed="rId6"/>
            <a:stretch/>
          </p:blipFill>
          <p:spPr>
            <a:xfrm>
              <a:off x="7143840" y="162864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7"/>
            <a:stretch/>
          </p:blipFill>
          <p:spPr>
            <a:xfrm>
              <a:off x="7110360" y="3166920"/>
              <a:ext cx="304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8"/>
            <a:stretch/>
          </p:blipFill>
          <p:spPr>
            <a:xfrm>
              <a:off x="6929280" y="3395520"/>
              <a:ext cx="45720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9"/>
            <a:stretch/>
          </p:blipFill>
          <p:spPr>
            <a:xfrm>
              <a:off x="7172280" y="4033800"/>
              <a:ext cx="30492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"/>
          <p:cNvGrpSpPr/>
          <p:nvPr/>
        </p:nvGrpSpPr>
        <p:grpSpPr>
          <a:xfrm>
            <a:off x="7116840" y="1371600"/>
            <a:ext cx="1312920" cy="4185720"/>
            <a:chOff x="7116840" y="1371600"/>
            <a:chExt cx="1312920" cy="4185720"/>
          </a:xfrm>
        </p:grpSpPr>
        <p:pic>
          <p:nvPicPr>
            <p:cNvPr id="230" name="" descr=""/>
            <p:cNvPicPr/>
            <p:nvPr/>
          </p:nvPicPr>
          <p:blipFill>
            <a:blip r:embed="rId10"/>
            <a:stretch/>
          </p:blipFill>
          <p:spPr>
            <a:xfrm>
              <a:off x="7388280" y="137160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1"/>
            <a:stretch/>
          </p:blipFill>
          <p:spPr>
            <a:xfrm>
              <a:off x="7116840" y="536724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"/>
          <p:cNvSpPr/>
          <p:nvPr/>
        </p:nvSpPr>
        <p:spPr>
          <a:xfrm>
            <a:off x="2362320" y="571500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Kelvin is the SI Base Unit of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447920"/>
            <a:ext cx="373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ff"/>
                </a:solidFill>
                <a:latin typeface="Comic Sans MS"/>
              </a:rPr>
              <a:t>These thermometers defined the Freezing Point (F.P.) &amp; the Boiling  Point (B.P.)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0130E-58DA-43F7-8A89-CE97AFF9E27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57200" y="3650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091200" y="2522520"/>
            <a:ext cx="2209320" cy="4335480"/>
            <a:chOff x="6091200" y="2522520"/>
            <a:chExt cx="2209320" cy="433548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6091200" y="2522520"/>
              <a:ext cx="204120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7600680" y="6332400"/>
              <a:ext cx="69984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7791480" y="632304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8948880" y="4989600"/>
            <a:ext cx="271440" cy="263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4491000" y="2475000"/>
            <a:ext cx="86040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7691400" y="2751120"/>
            <a:ext cx="547200" cy="2633760"/>
            <a:chOff x="7691400" y="2751120"/>
            <a:chExt cx="547200" cy="2633760"/>
          </a:xfrm>
        </p:grpSpPr>
        <p:pic>
          <p:nvPicPr>
            <p:cNvPr id="242" name="" descr=""/>
            <p:cNvPicPr/>
            <p:nvPr/>
          </p:nvPicPr>
          <p:blipFill>
            <a:blip r:embed="rId6"/>
            <a:stretch/>
          </p:blipFill>
          <p:spPr>
            <a:xfrm>
              <a:off x="7905600" y="2751120"/>
              <a:ext cx="3042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7"/>
            <a:stretch/>
          </p:blipFill>
          <p:spPr>
            <a:xfrm>
              <a:off x="7872120" y="428940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8"/>
            <a:stretch/>
          </p:blipFill>
          <p:spPr>
            <a:xfrm>
              <a:off x="7691400" y="4518000"/>
              <a:ext cx="45684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9"/>
            <a:stretch/>
          </p:blipFill>
          <p:spPr>
            <a:xfrm>
              <a:off x="7934040" y="5156280"/>
              <a:ext cx="30456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"/>
          <p:cNvGrpSpPr/>
          <p:nvPr/>
        </p:nvGrpSpPr>
        <p:grpSpPr>
          <a:xfrm>
            <a:off x="7878600" y="2494080"/>
            <a:ext cx="1312920" cy="4185720"/>
            <a:chOff x="7878600" y="2494080"/>
            <a:chExt cx="1312920" cy="4185720"/>
          </a:xfrm>
        </p:grpSpPr>
        <p:pic>
          <p:nvPicPr>
            <p:cNvPr id="247" name="" descr=""/>
            <p:cNvPicPr/>
            <p:nvPr/>
          </p:nvPicPr>
          <p:blipFill>
            <a:blip r:embed="rId10"/>
            <a:stretch/>
          </p:blipFill>
          <p:spPr>
            <a:xfrm>
              <a:off x="8150040" y="249408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11"/>
            <a:stretch/>
          </p:blipFill>
          <p:spPr>
            <a:xfrm>
              <a:off x="7878600" y="648972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>
            <a:off x="152280" y="1295280"/>
            <a:ext cx="85345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three temperature scales, their units a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Degrees Celsius 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Degrees Fahrenheit </a:t>
            </a:r>
            <a:r>
              <a:rPr b="0" lang="en-US" sz="2800" spc="-1" strike="noStrike" baseline="30000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Kelvin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3215F-5871-41AE-B353-2D965A423CC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720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Unit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Degrees Celsius </a:t>
            </a:r>
            <a:r>
              <a:rPr b="0" lang="en-GB" sz="3200" spc="-1" strike="noStrike" baseline="30000">
                <a:solidFill>
                  <a:srgbClr val="9999ff"/>
                </a:solidFill>
                <a:latin typeface="Comic Sans MS"/>
              </a:rPr>
              <a:t>0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C:</a:t>
            </a:r>
            <a:r>
              <a:rPr b="0" lang="ar-SA" sz="3200" spc="-1" strike="noStrike">
                <a:solidFill>
                  <a:srgbClr val="9999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 Scale 0 </a:t>
            </a:r>
            <a:r>
              <a:rPr b="0" lang="en-GB" sz="3200" spc="-1" strike="noStrike">
                <a:solidFill>
                  <a:srgbClr val="9999ff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100 Thus: 100 divisions or 10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Kelvin K: Scale 273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3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Thus: 100 divisions or 10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1K = 1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egrees Fahrenheit 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0" lang="ar-SA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Scale from 32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2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Thus: 180 divisions or 18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hus: the size of degree in 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 scale is only 100/180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5/9 of a degree on the 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 scale</a:t>
            </a:r>
            <a:r>
              <a:rPr b="0" lang="ar-SA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 = (5/9)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6AA63-5CF9-4EEB-8D4A-CBBB3BA90A3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 °C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+ 273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- 273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Fahrenheit °F →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or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= [ (9/5) ×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] + 3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= (5/9) (</a:t>
            </a:r>
            <a:r>
              <a:rPr b="1" lang="fr-FR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- 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o relatationship betw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          </a:t>
            </a: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      </a:t>
            </a: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      °F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hus: 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Unit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1600200"/>
            <a:ext cx="2971800" cy="1143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733920"/>
            <a:ext cx="3886200" cy="990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6248520"/>
            <a:ext cx="2362320" cy="457200"/>
          </a:xfrm>
          <a:prstGeom prst="wedgeRectCallout">
            <a:avLst>
              <a:gd name="adj1" fmla="val -25805"/>
              <a:gd name="adj2" fmla="val -74305"/>
            </a:avLst>
          </a:prstGeom>
          <a:noFill/>
          <a:ln w="255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43400" y="6248520"/>
            <a:ext cx="2438280" cy="457200"/>
          </a:xfrm>
          <a:prstGeom prst="wedgeRectCallout">
            <a:avLst>
              <a:gd name="adj1" fmla="val 523"/>
              <a:gd name="adj2" fmla="val -83333"/>
            </a:avLst>
          </a:prstGeom>
          <a:noFill/>
          <a:ln w="255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628B1-2908-4AD2-903A-AD9D7D794A7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088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(a) Convert 224 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F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°C </a:t>
            </a:r>
            <a:r>
              <a:rPr b="0" lang="de-DE" sz="2800" spc="-1" strike="noStrike">
                <a:solidFill>
                  <a:srgbClr val="00007d"/>
                </a:solidFill>
                <a:latin typeface="Comic Sans MS"/>
              </a:rPr>
              <a:t>]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[°F = (9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224 °C] + 32 = 43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(b) Convert -452 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F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→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C = (5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/9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(°F - 32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C = (5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/9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(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-452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32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= -269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(c) Convert </a:t>
            </a: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-38.9 </a:t>
            </a:r>
            <a:r>
              <a:rPr b="0" lang="en-US" sz="3200" spc="-1" strike="noStrike" baseline="30000">
                <a:solidFill>
                  <a:srgbClr val="9999ff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K =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-38.9 </a:t>
            </a:r>
            <a:r>
              <a:rPr b="0" lang="fi-FI" sz="3200" spc="-1" strike="noStrike">
                <a:solidFill>
                  <a:srgbClr val="9999ff"/>
                </a:solidFill>
                <a:latin typeface="Comic Sans MS"/>
              </a:rPr>
              <a:t>°C</a:t>
            </a:r>
            <a:r>
              <a:rPr b="0" lang="fi-FI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+ 273.15</a:t>
            </a:r>
            <a:r>
              <a:rPr b="0" lang="fi-FI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= 234.3 </a:t>
            </a:r>
            <a:r>
              <a:rPr b="0" lang="fi-FI" sz="3200" spc="-1" strike="noStrike">
                <a:solidFill>
                  <a:srgbClr val="00007d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1.3 p20 &amp; 21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F502A-55E6-403B-A758-6DD14E2E08B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33520" y="457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0000"/>
                </a:solidFill>
                <a:uFillTx/>
                <a:latin typeface="Comic Sans MS"/>
              </a:rPr>
              <a:t>H.W.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 Ammonia boils at -33.4</a:t>
            </a:r>
            <a:r>
              <a:rPr b="0" lang="en-US" sz="31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C. Wh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temperature is this in </a:t>
            </a:r>
            <a:r>
              <a:rPr b="0" lang="en-US" sz="31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F? 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-60.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-92.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(c)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-28.1</a:t>
            </a:r>
            <a:r>
              <a:rPr b="0" lang="en-US" sz="3100" spc="-1" strike="noStrike">
                <a:solidFill>
                  <a:srgbClr val="0070c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+13.5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457200" y="4876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°C]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-33.4 °C] + 32 = 43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38AEF-715E-4D42-8E1E-E2D4614AB04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ourse Gr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04920" y="1295280"/>
            <a:ext cx="8588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exams during the te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First exam 30 mark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lecture  1-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 Chapters 1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econd exam 30 mark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lecture 12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hapters 5,7-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0e2a"/>
                </a:solidFill>
                <a:latin typeface="Comic Sans MS"/>
              </a:rPr>
              <a:t>Final term exam 40 marks </a:t>
            </a:r>
            <a:r>
              <a:rPr b="0" lang="en-US" sz="3200" spc="-1" strike="noStrike">
                <a:solidFill>
                  <a:srgbClr val="700e2a"/>
                </a:solidFill>
                <a:latin typeface="Comic Sans MS"/>
                <a:ea typeface="Times New Roman"/>
              </a:rPr>
              <a:t>from lecture 1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0e2a"/>
                </a:solidFill>
                <a:latin typeface="Comic Sans MS"/>
                <a:ea typeface="Times New Roman"/>
              </a:rPr>
              <a:t>(Chapters 1,2,3,4,5,7,8,9,10,14,15,24,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N for 25% absence according to college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B7E03-29AD-4B32-BB42-1E6D48C887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81080" y="198108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AE9A7-BE2C-4B99-9470-882F72964B0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762120" y="2666880"/>
            <a:ext cx="70866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ges 16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mework  Page 32 &amp; 3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17,1.22,1.23,1.25,1.26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219320" y="10494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he Study of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31EE8-A3CE-4F7A-BA34-289AA736D9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95120" y="1267920"/>
            <a:ext cx="6248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070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99ff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6633"/>
                </a:solidFill>
                <a:latin typeface="Comic Sans MS"/>
              </a:rPr>
              <a:t>Measu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SI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Prefi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Units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Derive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Mass and We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Temperature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57200" y="363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1 The Study of Change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7DEB1-6813-427A-B124-E4777A191A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0"/>
          <p:cNvSpPr/>
          <p:nvPr/>
        </p:nvSpPr>
        <p:spPr>
          <a:xfrm>
            <a:off x="38088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: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Study of Chem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4412" r="0" b="0"/>
          <a:stretch/>
        </p:blipFill>
        <p:spPr>
          <a:xfrm>
            <a:off x="304920" y="2351160"/>
            <a:ext cx="8458200" cy="3516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320" y="16002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Comic Sans MS"/>
              </a:rPr>
              <a:t>Macrosc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1644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icrosc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52337-EE8F-4696-91F2-98A2C32A91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08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stry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study of matter and the changes it underg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ter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nything that occupies space and has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bstanc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form of matter that has a definite composition and distinct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380880" y="38088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EDC0D-003A-4B82-98DA-9439B37711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088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three stat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2"/>
          <p:cNvGrpSpPr/>
          <p:nvPr/>
        </p:nvGrpSpPr>
        <p:grpSpPr>
          <a:xfrm>
            <a:off x="1371600" y="1905120"/>
            <a:ext cx="6095520" cy="4647600"/>
            <a:chOff x="1371600" y="1905120"/>
            <a:chExt cx="6095520" cy="4647600"/>
          </a:xfrm>
        </p:grpSpPr>
        <p:pic>
          <p:nvPicPr>
            <p:cNvPr id="133" name="Picture 8" descr="01_07"/>
            <p:cNvPicPr/>
            <p:nvPr/>
          </p:nvPicPr>
          <p:blipFill>
            <a:blip r:embed="rId1"/>
            <a:srcRect l="13542" t="2780" r="14581" b="0"/>
            <a:stretch/>
          </p:blipFill>
          <p:spPr>
            <a:xfrm>
              <a:off x="1371600" y="1905120"/>
              <a:ext cx="6095520" cy="46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9"/>
            <p:cNvSpPr/>
            <p:nvPr/>
          </p:nvSpPr>
          <p:spPr>
            <a:xfrm>
              <a:off x="5961240" y="57002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0"/>
            <p:cNvSpPr/>
            <p:nvPr/>
          </p:nvSpPr>
          <p:spPr>
            <a:xfrm>
              <a:off x="1532160" y="5493240"/>
              <a:ext cx="7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qu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>
              <a:off x="4890960" y="194760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0880" y="3808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States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C545B-2DF2-461F-9C6E-D767AAE1B4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1-31T20:09:25Z</dcterms:modified>
  <cp:revision>218</cp:revision>
  <dc:subject/>
  <dc:title>General Chemistry CHEM 110</dc:title>
</cp:coreProperties>
</file>